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3730-651C-4CC6-B962-C0A6E0EE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3979-5BD7-486C-984A-34ADE7C2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7504-25AF-415C-9496-87FDF443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0BAA-1A17-49A9-AFF7-F79F33D4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709F-EEB5-42B7-9966-75E21164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06EB-42EF-485B-AD95-5A5455A2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C2E4-7516-41C0-AC14-5DDE9DB7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2B41-CA2D-47FB-889E-B13F569D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08A7-92AB-4ED8-A06D-A2893B18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BD04-F6B4-41CB-860B-6E15C64B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2FDC-8735-46FC-AA00-08C4FADA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FD5E-D88A-46C6-A0EB-1B2605FD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D518-8D04-45E0-914C-39F55799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27EF-A66C-4A6C-9DDA-EB2EAA2A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D3BE-C2FB-49CE-9AC1-1900D79D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B8CC-3B71-4A49-BD21-1B25E201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E41B-6BB8-451A-BD5D-E7FBD161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61FD09-BDD6-4514-A996-07300D97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A9BB2-C9DD-4BF2-8987-D687BB49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509C33-98C6-40F5-99A8-0ED0901D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CF234-944B-4FC3-AEA5-D55A5D03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28B1A-26C0-4FBE-B610-9C29EB70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90D0-6BF0-4FE3-8256-9A0CC1E0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E0ACA-4631-48D9-AB85-FDE55E9E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3F55A-2468-4819-AE05-6B691C51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A9747A-3B49-4FD2-ABBE-EB84686B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63A5B-1186-4845-80CB-951A9E51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01805-0646-4B3D-85C2-AA5B0025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09EA5-C2D4-42AC-9A39-FDE66631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F1301-B66C-41A5-A99C-E4A5AFE8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82943-E439-4D14-A617-F5FC1604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934A0-850B-47F4-8139-DDF7D6B5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B825B-DB2A-4FB0-96C1-7203A9E8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16CE-2972-48F5-91A9-8FE38481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7B85E-A548-42B1-8D97-CE83B22A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920E7-7A5F-4F1C-AC07-0BEFADCA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06DE8-9B86-4B2D-A4FF-801EB9B6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14F5F-991A-4CA2-9CA2-393376C3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A806B-F6C0-42F3-858B-637E3C72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77CBF-8EAC-490A-99AD-49FE551F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64E72-22DB-4BE7-96BA-66218D20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8F944-E01D-4222-9D08-3CD0D149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88A47-FCA1-4743-80E4-E3F878E1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CA87-A480-400C-8233-BA116F7E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137-A108-48EF-8FCE-52A7414E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3DAA-963A-4EB4-87E1-39A64BFF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4280-A573-4137-AB7D-6CE3CF16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8883-6736-48A2-AC9F-66A9BCB4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94EE-A0F4-4C21-BBBE-6143332F9D9D}" type="slidenum">
              <a:rPr b="0" lang="es-E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1AC1-80B3-4591-987D-58DB95380A13}" type="slidenum">
              <a:rPr b="0" lang="es-E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896A-AE2E-400C-9338-D5F9D176CF13}" type="slidenum">
              <a:rPr b="0" lang="es-E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71D5-DC18-48AC-BCF2-89CDEC3DF09E}" type="slidenum">
              <a:rPr b="0" lang="es-E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4c600"/>
                </a:solidFill>
                <a:latin typeface="Century Gothic"/>
              </a:rPr>
              <a:t>CIENCIAS DE LA TIERRA Y MEDIO AMBIENTE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24242"/>
                </a:solidFill>
                <a:latin typeface="Century Gothic"/>
              </a:rPr>
              <a:t>CURSO 2013-2014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24242"/>
                </a:solidFill>
                <a:latin typeface="Century Gothic"/>
              </a:rPr>
              <a:t>Inmaculada Tallón Robert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24242"/>
                </a:solidFill>
                <a:latin typeface="Century Gothic"/>
              </a:rPr>
              <a:t>I.E.S Ignacio Ellacuría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24242"/>
                </a:solidFill>
                <a:latin typeface="Century Gothic"/>
              </a:rPr>
              <a:t>Alcalá de Henares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PRESENTACIÓ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e3d2d"/>
                </a:solidFill>
                <a:latin typeface="Century Gothic"/>
              </a:rPr>
              <a:t>¡Hola chicos!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e3d2d"/>
                </a:solidFill>
                <a:latin typeface="Century Gothic"/>
              </a:rPr>
              <a:t>A algunos os conozco de 3º, 4º; otros sois nuevos. Tanto para unos como para otros ( que sé que se olvidan de los nombres de los profesores) me llamo Inmaculada Tallón Robert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e3d2d"/>
                </a:solidFill>
                <a:latin typeface="Century Gothic"/>
              </a:rPr>
              <a:t>Siento no poder iniciar el curso a su debido tiempo, pero espero que me ayudéis siguiendo las instrucciones que os voy a ir dejando en la wiki que vamos a seguir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C:\Users\inma\Pictures\INMA\mías\100_2926.JPG"/>
          <p:cNvPicPr/>
          <p:nvPr/>
        </p:nvPicPr>
        <p:blipFill>
          <a:blip r:embed="rId1"/>
          <a:stretch/>
        </p:blipFill>
        <p:spPr>
          <a:xfrm>
            <a:off x="3098880" y="2133720"/>
            <a:ext cx="2944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Recurso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Libro de Texto: CTMA . </a:t>
            </a:r>
            <a:r>
              <a:rPr b="0" lang="es-ES_tradnl" sz="2400" spc="-1" strike="noStrike">
                <a:solidFill>
                  <a:srgbClr val="3e3d2d"/>
                </a:solidFill>
                <a:latin typeface="Century Gothic"/>
              </a:rPr>
              <a:t>CIENCIAS DE LA TIERRA. Ed. EDITEX  (978-84-9771-401-3)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e3d2d"/>
                </a:solidFill>
                <a:latin typeface="Century Gothic"/>
              </a:rPr>
              <a:t>Exámenes de selectividad que podéis encontrar en enlaces de la wiki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e3d2d"/>
                </a:solidFill>
                <a:latin typeface="Century Gothic"/>
              </a:rPr>
              <a:t>Y, sobre todo, todos los recursos que cuelgue en la wiki: bioellawikiinma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Estructura de la wiki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e3d2d"/>
                </a:solidFill>
                <a:latin typeface="Century Gothic"/>
              </a:rPr>
              <a:t>En primer lugar: Programación con los objetivos y contenidos, criterios de calificación y la temporalización de este curso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e3d2d"/>
                </a:solidFill>
                <a:latin typeface="Century Gothic"/>
              </a:rPr>
              <a:t>Después tema a tema tenemos: PPts de cada tema, actividades y videos relacionados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e3d2d"/>
                </a:solidFill>
                <a:latin typeface="Century Gothic"/>
              </a:rPr>
              <a:t>También hay enlaces a páginas interesantes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Trabajo inicio de curso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e3d2d"/>
                </a:solidFill>
                <a:latin typeface="Century Gothic"/>
              </a:rPr>
              <a:t>Debido a esta ausencia que voy a tener os voy a pedir que me ayudéis iniciando el curso vosotros solos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e3d2d"/>
                </a:solidFill>
                <a:latin typeface="Century Gothic"/>
              </a:rPr>
              <a:t>En primer lugar os pido que leáis el Tema 1 del libro y que lo subrayéis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e3d2d"/>
                </a:solidFill>
                <a:latin typeface="Century Gothic"/>
              </a:rPr>
              <a:t>Hagáis los ejercicios 1 al 11 del texto y los ejercicios 1 al 5 de las actividades finales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e3d2d"/>
                </a:solidFill>
                <a:latin typeface="Century Gothic"/>
              </a:rPr>
              <a:t>Así mismo, actividades colgadas como tema 1 en la wiki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e3d2d"/>
                </a:solidFill>
                <a:latin typeface="Century Gothic"/>
              </a:rPr>
              <a:t>Para terminar: estudiar la presentación del tema 1 con las anotaciones que hagáis del resumen del libro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No os agobiéis, tenéis todas las horas de CTMA para hacerlas hasta que yo pueda volver, que lo voy a hacer lo más rápido posibl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                          </a:t>
            </a: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Hasta pronto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14:59:34Z</dcterms:created>
  <dc:creator>inma</dc:creator>
  <dc:description/>
  <dc:language>en-US</dc:language>
  <cp:lastModifiedBy>inma</cp:lastModifiedBy>
  <dcterms:modified xsi:type="dcterms:W3CDTF">2013-09-09T15:30:55Z</dcterms:modified>
  <cp:revision>6</cp:revision>
  <dc:subject/>
  <dc:title>CIENCIAS DE LA TIERRA Y MEDIO AMBIENTE</dc:title>
</cp:coreProperties>
</file>